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C811-1F6E-4F5C-AADC-9D71DB3D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A853-4063-497A-A042-FB0EE38D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AC57-9A25-4DA7-A7B1-37B5D6DC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74BC-4FA9-4103-AC80-D82D5177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08E1-E551-4B46-AC85-459522F2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05B4-B94E-48A7-A6CC-47815EC6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E03E-F5EF-4012-9BE2-27471941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4AC4-62AC-453B-BED6-CE78BBDC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D405-87A5-45DA-88B3-8850EBB3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058F-BC8C-4132-A548-0B2CCECA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1486-0A9B-468F-927C-1C4EB974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CAC3-BAB3-416C-916C-D05F5542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574B-FC74-460E-A19E-3B18078AE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9630" t="33675" r="0" b="2349"/>
          <a:stretch/>
        </p:blipFill>
        <p:spPr>
          <a:xfrm>
            <a:off x="1066680" y="1447920"/>
            <a:ext cx="7391520" cy="3695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5:12:47Z</dcterms:created>
  <dc:creator>student305</dc:creator>
  <dc:description/>
  <dc:language>en-US</dc:language>
  <cp:lastModifiedBy>student305</cp:lastModifiedBy>
  <dcterms:modified xsi:type="dcterms:W3CDTF">2010-03-23T05:22:48Z</dcterms:modified>
  <cp:revision>2</cp:revision>
  <dc:subject/>
  <dc:title>Slide 1</dc:title>
</cp:coreProperties>
</file>